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F7A-2120-4DF7-AB44-37B4501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A2E-68F9-4B2D-9B3F-FA7756A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D8C-4EE8-4BCE-9BF9-E6558822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3DE-14F1-48E6-A7DC-F780F66D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771-4EF1-43F9-BAEE-B9BF2AEA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403B-EDAE-4132-BF5A-A5082577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1F9D-5A0E-4DAA-9544-1E61AA9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52A-B196-4258-BA9C-F7C40F96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2CD-6952-4FE3-9E24-BF50E4F4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DC6D-0F9E-443B-A4B2-3790E5F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98E2-F709-4242-AD62-D5BCEC9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680-F4F6-4D9B-BB89-95D6B62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8FC9-3FB5-4547-971A-096CA22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A92-CB5A-4D4C-B5BA-34DF221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D5CE-CF44-47F9-8FCB-F84D2443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90D4-F479-48AD-AC1A-4D1D1DF8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B16-1B17-4D6C-9F89-B3C0EDB9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86FA-6DF8-4132-BD7A-34C72D5D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07A4-F8DD-4496-AD86-D38A7C81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8EE1-FE9A-4CF4-9E69-44FD850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2490-0729-49BF-B8B6-035C1D23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5597-23D4-45E8-A2F4-2D04A3E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1AE-B880-4183-8090-3AA1373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8B93-D3F9-49F6-8BA4-F34617C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12CF-A498-457D-933A-573B623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2B6A-9A55-47D1-8C01-A55A86E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61CF-ABCD-4169-9CFF-7C509444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151F-80D3-422D-AE1B-01AD6F9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D1B9-7057-4ACF-BC1F-A396C197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4BBE-DFDB-4334-BC5E-CA13AFF1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BFA-0247-4D24-B3B4-ABA08129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D57-0515-4754-93CE-8F701B52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B47-48E0-48C3-86A9-1D06EE87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4B2-CDEE-4436-96C5-39290EFB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825-FCA4-4D45-9D55-79CC229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ED8-517B-4785-A06D-51B96D2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CDC-2C7F-41FF-B43B-93871B3361D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34F-77F7-44DE-905C-4E0906540F2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053-58D4-4CB8-831F-CC848E5122C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.autorambler.ru/news/getimg.php?id=2656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pic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359240" y="0"/>
            <a:ext cx="4784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Arial Black"/>
              </a:rPr>
              <a:t>Сказ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00"/>
                </a:solidFill>
                <a:latin typeface="Arial Black"/>
              </a:rPr>
              <a:t>о трёх 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«</a:t>
            </a:r>
            <a:r>
              <a:rPr b="1" i="1" lang="ru-RU" sz="7000" spc="-1" strike="noStrike">
                <a:solidFill>
                  <a:srgbClr val="008000"/>
                </a:solidFill>
                <a:latin typeface="Arial Black"/>
              </a:rPr>
              <a:t>НЕ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947400" y="5643720"/>
            <a:ext cx="36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МБОУ «Средняя школа №9» ЕМР 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 Black"/>
              </a:rPr>
              <a:t>Театр здоровья 4б кла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Руководители: Габдельбарова С. 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             </a:t>
            </a: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Кочнева Е.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вниматель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ff"/>
                </a:solidFill>
                <a:latin typeface="Verdana"/>
              </a:rPr>
              <a:t>осторож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знание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правил дорожного движения!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M8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611280" y="260280"/>
            <a:ext cx="7921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казка был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но в ней намек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шеходам всем урок: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чтоб в аварию не попадат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надо знать и соблюдать,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сем без исключения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ПРАВИЛА ДВИЖЕНИЯ!</a:t>
            </a: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44D72EBDE45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7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Картинка 187 из 12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583280" y="2421000"/>
            <a:ext cx="6161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Verdana"/>
              </a:rPr>
              <a:t>АВАРИЯ!!!</a:t>
            </a:r>
            <a:endParaRPr b="0" lang="en-US" sz="10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2sent"/>
          <p:cNvPicPr/>
          <p:nvPr/>
        </p:nvPicPr>
        <p:blipFill>
          <a:blip r:embed="rId1"/>
          <a:srcRect l="0" t="0" r="0" b="7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693dcd64230593679c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80992-Sepik"/>
          <p:cNvPicPr/>
          <p:nvPr/>
        </p:nvPicPr>
        <p:blipFill>
          <a:blip r:embed="rId2"/>
          <a:srcRect l="15871" t="8652" r="8345" b="0"/>
          <a:stretch/>
        </p:blipFill>
        <p:spPr>
          <a:xfrm>
            <a:off x="1763640" y="0"/>
            <a:ext cx="71643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973240" y="61657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нспектор ГИБДД Ив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002-003-Dorogie-deti"/>
          <p:cNvPicPr/>
          <p:nvPr/>
        </p:nvPicPr>
        <p:blipFill>
          <a:blip r:embed="rId1"/>
          <a:stretch/>
        </p:blipFill>
        <p:spPr>
          <a:xfrm>
            <a:off x="4427640" y="1341360"/>
            <a:ext cx="25700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Безимени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1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5445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ШЕХОД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Рисунок5.jpg"/>
          <p:cNvPicPr/>
          <p:nvPr/>
        </p:nvPicPr>
        <p:blipFill>
          <a:blip r:embed="rId2"/>
          <a:stretch/>
        </p:blipFill>
        <p:spPr>
          <a:xfrm>
            <a:off x="3564000" y="1413000"/>
            <a:ext cx="357804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Безимени-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2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32000" y="5373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ОСТОРОЖНО, ДЕТ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6" descr="Рисунок11.png"/>
          <p:cNvPicPr/>
          <p:nvPr/>
        </p:nvPicPr>
        <p:blipFill>
          <a:blip r:embed="rId2"/>
          <a:stretch/>
        </p:blipFill>
        <p:spPr>
          <a:xfrm>
            <a:off x="2995560" y="1197000"/>
            <a:ext cx="51706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03640" y="5805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РЕМОНТ ДОРОГ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5" descr="Рисунок2.png"/>
          <p:cNvPicPr/>
          <p:nvPr/>
        </p:nvPicPr>
        <p:blipFill>
          <a:blip r:embed="rId2"/>
          <a:stretch/>
        </p:blipFill>
        <p:spPr>
          <a:xfrm>
            <a:off x="3276720" y="1341360"/>
            <a:ext cx="4870440" cy="42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269588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айна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рёх 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НЕ</a:t>
            </a: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на которы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держится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АВАРИЯ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42:19Z</dcterms:created>
  <dc:creator>Пользователь</dc:creator>
  <dc:description/>
  <dc:language>en-US</dc:language>
  <cp:lastModifiedBy>school</cp:lastModifiedBy>
  <dcterms:modified xsi:type="dcterms:W3CDTF">2011-04-29T10:56:30Z</dcterms:modified>
  <cp:revision>15</cp:revision>
  <dc:subject/>
  <dc:title>Слайд 1</dc:title>
</cp:coreProperties>
</file>